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22E-674E-4D2F-AE8A-A88C4C26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5AA-0630-47FA-A78E-B991B103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168-F02C-45BF-BC9B-E00BFDE1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065-C9D1-48F8-BBC3-637E3ACE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CC0-6525-47E5-8C3D-CB5B1560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65B-6B5B-4F16-B0E8-8FC1FA34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984-3722-480F-8434-2E9A65AD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94A-09B4-4F75-8052-F96A4327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4F5-2CC9-446F-813E-DD55B3F4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86C-02A7-47CA-B3D6-C7595992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C0A-3070-4D2A-88F8-203CF522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A68-5F63-458A-B4DD-F313EA34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51A-590D-49D6-AA12-A0DEE34A4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4479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16765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676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1905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905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819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971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3276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3434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34340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43434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41911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520" y="99072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990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"makefile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makefil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makefile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on’t panic ;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356000"/>
            <a:ext cx="53316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505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3429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86000" y="3276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080" y="342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-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448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816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31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36572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88080" y="32004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9840" y="54482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5308560"/>
            <a:ext cx="457200" cy="254160"/>
          </a:xfrm>
          <a:custGeom>
            <a:avLst/>
            <a:gdLst/>
            <a:ahLst/>
            <a:rect l="l" t="t" r="r" b="b"/>
            <a:pathLst>
              <a:path w="288" h="160">
                <a:moveTo>
                  <a:pt x="288" y="160"/>
                </a:moveTo>
                <a:cubicBezTo>
                  <a:pt x="264" y="96"/>
                  <a:pt x="240" y="32"/>
                  <a:pt x="192" y="16"/>
                </a:cubicBezTo>
                <a:cubicBezTo>
                  <a:pt x="144" y="0"/>
                  <a:pt x="72" y="32"/>
                  <a:pt x="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601992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05520"/>
            <a:ext cx="10670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5:03Z</dcterms:modified>
  <cp:revision>51</cp:revision>
  <dc:subject/>
  <dc:title>xPanel &amp; PCO2</dc:title>
</cp:coreProperties>
</file>